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97700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A2D-8E37-46DC-B0C9-3E2F0D8F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ADA-166F-40B7-A9AE-EEB770B5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1CE-245F-4CDD-9653-E3DBC148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9F8D-FEDB-43E2-883A-8B0D8F87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5536-1F74-406F-8114-53256E59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694-B8CF-483F-A964-C69E630C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D01-F174-4F69-8FA3-EA558ED5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201A-2850-491E-BD1C-FE9E2B4F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E374-C1BE-454A-9B84-A1154A1C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16A-FA3A-4088-A4E9-C3B9A74C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F17D-307F-4B4C-B474-927E2518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2CD-ECB0-4885-A4EF-443F49BD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14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C9D0-E6D6-4698-9CE4-FE8024350348}" type="slidenum">
              <a:rPr b="0" lang="en-US" sz="1400" spc="-1" strike="noStrike">
                <a:solidFill>
                  <a:srgbClr val="000514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04920"/>
            <a:ext cx="7772400" cy="28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Developing a Plan to Transition to    Value-Based Purchasing for Physician     &amp; Other Professional Services (PVB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fining the Opportunit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3282840"/>
            <a:ext cx="555624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Jeffrey Rich, M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enter for Medicar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3680" y="5103720"/>
            <a:ext cx="323172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05920" y="6172200"/>
            <a:ext cx="533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58AA-1812-4EE4-B094-4F2C17AA0C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BP Demonstrations and Pilo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9907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Health Support Pilo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are Management for High-Cost Beneficiaries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Healthcare Quality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ainsharing Demonstr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ute Care Episode (ACE)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tter Quality Information for Medicare Beneficiaries (BQI) Pilo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lectronic Health Records (EHR)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l Hom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E202-3EFA-422A-8FB1-63BE02AE60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BP Initiativ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762120"/>
            <a:ext cx="81536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spital Quality Initiative: Inpatient &amp; Outpatient Pay for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spital VBP Plan &amp; Report to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spital-Acquired Conditions &amp; Present on Admission Indicator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Quality Reporting Initiat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Resource Use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&amp; Other Professional Services VBP Plan &amp; Report to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me Health Care Pay for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SRD Pay for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id V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12D-3CD8-4035-8600-FFD57A1BC4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Goa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Improve Medicare beneficiary health outcomes and experience of care by using payment incentives and transparency to encourage higher quality, more efficient professional serv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8640-A265-4B3F-916F-6CBE15AE04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rogram Objectiv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mote the practice of evidence-based medic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duce fragmentation and du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courage effective management of chronic dise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celerate the adoption of effective interoperable health information 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timulate investments in effective structural components or syst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sseminate transparent and useful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o empower consumers to make value-based health care choi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o encourage health professionals to improve the value of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857-7A70-4188-81C1-9BDDAD11C9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ersonal Experiences with VB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Virginia Cardiac Surgery Quality Initiative (VCSQI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oluntary consortium of 13 cardiac surgical practices and 17 hospitals providing open-heart surgery in the Commonwealth of Virgin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vened since 1996 to improve the quality of surgical care and contain costs by comparing data and exchanging in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ed a type of “accountable care organization” collaborating regionally to implement consensus-based QI projects and create payment mechanisms as a catalyst for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7727-45FA-4EF8-B4A3-2E84B08C20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ersonal Experiences with VB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Virginia Cardiac Surgery Quality Initiative (VCSQI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elped design a proposed global pricing demonstration with CMS in 200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undled pay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lity metri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ared savin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ed and implemented P4P programs with Anthem Blue Cross and Blue Shield of Virgini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lity-In-Sights: Hospital Incentive Program (Q-HI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lity Physician Performance Program (Q-P3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lign hospital and physician goals to foster collaborat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2008 Eisenberg Patient Safety-Quality Award from NQF-The Joint Commis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55F0-71D9-495E-A832-32BECD1014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onclu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5000"/>
              </a:lnSpc>
              <a:spcBef>
                <a:spcPts val="349"/>
              </a:spcBef>
              <a:spcAft>
                <a:spcPts val="14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ing this PVBP Plan provides an important opportunity to explore a wide range of options appropriate to the diversity of practice arrangements and settings of c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5000"/>
              </a:lnSpc>
              <a:spcBef>
                <a:spcPts val="349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ocusing on both longer term and short-term timeframes will enable immediate changes to be designed with longer-term objectives in mi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5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55D1-DF39-462A-B65A-E715715DBA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the Prese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text for PVBP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MS goal and objectives for the PVBP Pl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ighlights of my own experience to illustrate the opportun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ortance of this eff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10F0-30F0-4E5A-B725-C4E20A74B3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MS’ Quality Improvemen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oadma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ision: The right care for every person every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ake car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af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ffec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ffici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tient-cent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im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quit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B96F-2148-47D8-BC84-313387070A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MS’ Quality Improvement 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oadma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trateg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ork through partnershi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 quality and report comparative resul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alue-Based Purchasing (VBP): improve quality and avoid unnecessar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courage adoption of effective health information 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mote innovation and the evidence base for effective use of 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E13B-EF33-4DBD-9D1F-77A41AF745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What Does VBP Mean to CMS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ransforming Medicare from a passive payer to an active purchaser of higher quality, more efficient health c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ools and initiatives for promoting better quality, while avoiding unnecessar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Tools: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measurement, payment incentives, public reporting, conditions of participation, coverage policy, QIO progr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Initiatives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:  pay for reporting, pay for performance, gainsharing, competi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idding, bundled payment, coverage decisions, direct provider supp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A71-CD10-4F40-B03A-BEB8F8E91D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Why VBP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Improve Qu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Quality improvement opportun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ennberg’s Dartmouth Atlas on variation in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cGlynn’s NEJM findings on lack of evidence-based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OM’s Crossing the Quality Chasm findin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Avoid Unnecessary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dicare’s various fee-for-service fee schedules and prospective payment systems based on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resource consumption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and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quantity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of care, NOT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quality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or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unnecessary costs avoid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ayment systems’ incentives are not align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2D7F-7E6B-440D-A0EE-E6FCE4C08F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Why VBP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Medicare Solvency and Beneficiary Imp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xpenditures up from $219 billion in 2000 to a projected $486 billion in 200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rt A Trust F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xcess of expenditures over tax income in 200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jected to be depleted by 201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rt B Trust F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xpenditures increasing 11% per year over the last 6 yea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premiums, deductibles, and cost-sharing projected to consume 28% of the average beneficiary’s Social Security check in 20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CEC5-04BA-411B-8C3C-3F28BF67CE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pport for VB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esident’s Budg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FYs 2006-0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gressional Interest in P4P and Other VBP Tool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IPA, MMA, DRA, TRHCA, MMSEA, MIPP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PAC Reports to Congr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4P recommendations on quality, efficiency, health information technology, and payment refor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OM Repo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4P recommendations in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To Err Is Human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Crossing the Quality Cha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port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Rewarding Provider Performance: Aligning Incentives in Medi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ivate Sec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ivate health pl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mployer coali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2A6-C607-4EF1-BD41-C9FB61005B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BP Demonstrations and Pilo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emier Hospital Quality Incentiv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Group Practic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Care Management Performanc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Nursing Home Value-Based Purchasing Demonstr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me Health Pay for Performanc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E6E-FC30-4726-97F4-40E6086159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5:39:28Z</dcterms:created>
  <dc:creator>Tinabeth Burton</dc:creator>
  <dc:description/>
  <dc:language>en-US</dc:language>
  <cp:lastModifiedBy>CMS</cp:lastModifiedBy>
  <dcterms:modified xsi:type="dcterms:W3CDTF">2008-12-08T15:51:44Z</dcterms:modified>
  <cp:revision>47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98274953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 - one replacement</vt:lpwstr>
  </property>
  <property fmtid="{D5CDD505-2E9C-101B-9397-08002B2CF9AE}" pid="6" name="_NewReviewCycle">
    <vt:lpwstr/>
  </property>
  <property fmtid="{D5CDD505-2E9C-101B-9397-08002B2CF9AE}" pid="7" name="_PreviousAdHocReviewCycleID">
    <vt:r8>1541296745</vt:r8>
  </property>
</Properties>
</file>